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846-53CA-4B57-AFFE-914F7C9E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154-23A3-4B79-B522-18B809F4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83C-8238-4DE5-A79D-A1FF9625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7C2-C076-4306-9253-561180D6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471E-FC65-4E82-80E6-A3E6A620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0C9A-2F89-45AC-8E4A-A24CAD9D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DF91-B320-48C0-8EA0-E51EFDD7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71FC-2159-47ED-8C2F-71687A96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652B-7F7F-4B6F-B4E4-A18E8468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A6C9-3FAD-418B-B7FC-3D70BB89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31AE-9CD2-4F5B-8C8F-B5B000F2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A9E-06C5-4167-824E-1A597BCE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A4F9-50EF-460A-BC0D-BA0553E5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A7CD-AB6B-41A9-8913-3DDAD44C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85D1-414E-4E02-A9E0-51590AA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FD09-5736-40BB-B82B-E02C1330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63FB-D084-4397-AD22-222B8CFD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B18F-043A-4DC5-81F9-A9767D96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F6A-B835-4989-9189-4FCA5691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DF7-6A74-4FDC-AD8F-9DF6FCE6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77F-0501-4F0A-8BB0-BAE1C905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195-23C5-4C60-B4C2-23AF7E57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B03-9ACC-43F0-8B7F-BE991B7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2D0-E137-446D-87F2-EE1F78A5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16DF-4D01-409B-958C-89851834B05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5006-0FD1-4CD7-B41B-DFDBD965DF1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G_0052"/>
          <p:cNvPicPr/>
          <p:nvPr/>
        </p:nvPicPr>
        <p:blipFill>
          <a:blip r:embed="rId1"/>
          <a:stretch/>
        </p:blipFill>
        <p:spPr>
          <a:xfrm>
            <a:off x="250920" y="1628640"/>
            <a:ext cx="3938400" cy="36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3" descr="Фото Аркалык 037"/>
          <p:cNvPicPr/>
          <p:nvPr/>
        </p:nvPicPr>
        <p:blipFill>
          <a:blip r:embed="rId2"/>
          <a:stretch/>
        </p:blipFill>
        <p:spPr>
          <a:xfrm>
            <a:off x="4427640" y="1647720"/>
            <a:ext cx="4176720" cy="36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Rectangle 4"/>
          <p:cNvSpPr/>
          <p:nvPr/>
        </p:nvSpPr>
        <p:spPr>
          <a:xfrm>
            <a:off x="2917800" y="5419800"/>
            <a:ext cx="33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ыбы: 6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өткізген: Жұман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ы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: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2.02.2008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36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0920" y="2852640"/>
            <a:ext cx="66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шық сабақ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14280" y="189000"/>
            <a:ext cx="851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Тақырыбы: Кенді пайдалы қазбал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4744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а) кенді пайдалы қазбалар жайлы теориялық түсінік бе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ә) оқушылардың танымдық  белсенділігін арттыру, ойын, тілін дам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) есте сақтаушылыққа, қауіпсіздікке негіздей отырып кәсіби тәрбие 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665280" y="115920"/>
            <a:ext cx="65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абақтың мақ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2780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рамандық әдіс, картамен жұмыс, кесте,  сызбалар толтыру, «топтастыру» стратегия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684360" y="1557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түр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61280" y="16351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1280" y="2349360"/>
            <a:ext cx="417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әдісі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682560" y="3532320"/>
            <a:ext cx="5543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көрнекіліг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50920" y="4011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биғи және тұрмыстық заттар,  үлгілер, магнит, тірек-сыз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үлестірмелер, кесте, к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755640" y="4898880"/>
            <a:ext cx="11667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ТСО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60480" y="4869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елевизор, бейне тас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826920" y="6058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на тілі, қазақ тілі, география,  математика, орыс тілі, еңб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2195640" y="558972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Пән аралық байланыс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708360" y="112500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ң назарын  сабаққа ауда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ндеу, журнал толты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260360" y="333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Сабақтың барысы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4000" y="1125360"/>
            <a:ext cx="3527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. Ұйымдастыру кезеңі: 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193840" y="3142440"/>
            <a:ext cx="61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ынып қалай таза 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үртілді ме тақтамы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н сау болсын десеңі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залықты сақта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 түгел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зекші оны біле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л болсақ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әрін маған қар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Оқысаңыз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амнан шырақ жағы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генің алдынн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мей-ақ табылар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22200" y="249228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. Психологиялық дайындық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64960" y="1413000"/>
            <a:ext cx="646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Times New Roman"/>
              </a:rPr>
              <a:t>Жауаптарын магниттік тақтадағы картаға жапс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юминий қай қалада шығады? Оны белгісі қанд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ұнай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ыс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мір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іздің қаламызда қандай кен орны бар?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л мекеме қалай ата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395280" y="26028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І. Үй тапсырмасын сұр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89080" y="6922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3-1. Қазақстанның пайдалы қазбалары  тақырыбы бойынша оқушыларға сұрақ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4000" y="36378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. «Топтастыру» стратегия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79280" y="4012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йдалы қазбалар деген сөздің маңайына пайдалы қазбалар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атады соны топтасты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835280" y="4797360"/>
            <a:ext cx="6875280" cy="1871640"/>
            <a:chOff x="1835280" y="4797360"/>
            <a:chExt cx="6875280" cy="1871640"/>
          </a:xfrm>
        </p:grpSpPr>
        <p:sp>
          <p:nvSpPr>
            <p:cNvPr id="180" name="Rectangle 8"/>
            <p:cNvSpPr/>
            <p:nvPr/>
          </p:nvSpPr>
          <p:spPr>
            <a:xfrm>
              <a:off x="3976920" y="5577120"/>
              <a:ext cx="2253960" cy="44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Пайдалы қазба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41400" y="4797360"/>
              <a:ext cx="112680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ы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18352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юм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947600" y="506484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т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71326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абиғи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638880" y="479736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кө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6231240" y="613440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ұн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511720" y="613440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е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906600" y="50648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сб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4314240" y="6268320"/>
              <a:ext cx="1578960" cy="40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құ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5104080" y="6000840"/>
              <a:ext cx="0" cy="26712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4089240" y="6000840"/>
              <a:ext cx="101448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104080" y="6000840"/>
              <a:ext cx="112680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5216400" y="5198400"/>
              <a:ext cx="5626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 flipV="1">
              <a:off x="4765680" y="5198400"/>
              <a:ext cx="45036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H="1" flipV="1">
              <a:off x="3525120" y="5198400"/>
              <a:ext cx="16912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216400" y="5198400"/>
              <a:ext cx="15778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>
              <a:off x="6231240" y="5733720"/>
              <a:ext cx="90108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H="1">
              <a:off x="3413160" y="5733720"/>
              <a:ext cx="56376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43000" y="119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не таспадан кен орындарындарындағы жұмысты тамашалай отырып, кен, кеншілер, кәсіпшілік, тұрғысында әңгім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268360" y="2133000"/>
            <a:ext cx="53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лар жайлы тірек сызба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өрсете отырып сабақты түсінді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332000" y="18900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V. Жаңа сабақ</a:t>
            </a:r>
            <a:endParaRPr b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0920" y="871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Кіріспе бөлі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80080" y="2060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Негізгі бө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27520" y="3087720"/>
            <a:ext cx="57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ірек сызбаны дәптерге ж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йбір оқушылар жапсыру жұмысын жас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979640" y="3860640"/>
            <a:ext cx="6768720" cy="2736720"/>
            <a:chOff x="1979640" y="3860640"/>
            <a:chExt cx="6768720" cy="2736720"/>
          </a:xfrm>
        </p:grpSpPr>
        <p:sp>
          <p:nvSpPr>
            <p:cNvPr id="206" name="Rectangle 9"/>
            <p:cNvSpPr/>
            <p:nvPr/>
          </p:nvSpPr>
          <p:spPr>
            <a:xfrm>
              <a:off x="3362400" y="3860640"/>
              <a:ext cx="4560480" cy="39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КЕНДІ ПАЙДАЛЫ ҚАЗБАЛ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979640" y="4642560"/>
              <a:ext cx="317808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Қара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5570640" y="4642560"/>
              <a:ext cx="317772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Түсті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309400" y="5619960"/>
              <a:ext cx="2476440" cy="78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Болат, шойын, темір, құрыш т.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5591160" y="5619960"/>
              <a:ext cx="266184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Алтын, күміс, алюминий, мыс, қорғасын т.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786200" y="4251600"/>
              <a:ext cx="68616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487840" y="4251600"/>
              <a:ext cx="61884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363060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693252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45960" y="40464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ақалдағы мамандық иелерінің қимылын көрс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бердің қолы ортақ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ағаш шебер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Өнерлінің қолы алт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тігінш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шен адам «сөз» соғ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Ұста адам «төс» соғар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ұстаны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Не ексен, соны орас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егінші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59280" y="442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Times New Roman"/>
              </a:rPr>
              <a:t>Сергіту сә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9280" y="3285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Үстел үстіне болат, шойын, алюминий, қорғасын, қалайы, күміс, т.б. металлдардан жасалған бұйымдар қойы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Оқушылар олардың әрқайсысына магнит жақындаты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байқайды. Кейбіреулері магнитке тартылады, кейбіреу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тартылмайды. Оқушылар мынадай қорытынды жасайды: болат пен шойыннан жасалған бұйымдар магнитке тартылады, яғни олар қара металлдар, ал алюминий, қалайы, қорғасын, күміс, алтын т.б. магнитке тартылмайды, яғни олар түсті металл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285264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Сарамандық жұмыс жасау  арқылы жаңа сабақты бекі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468360" y="2492280"/>
            <a:ext cx="403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V. Сарамандық жұмы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83628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ұрақ-жауап, кен деп нені айтады? Қандай түрлерін білесінд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 дегніміз не? «Тірек сызба» бойынша сабақты қорытынды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53964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. Қорытынды бөлі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220356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І. Үйге тапсы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2987640" y="6381720"/>
            <a:ext cx="1973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Баға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840" y="263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Arial"/>
              </a:rPr>
              <a:t>Карточкалар үлестіріп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0000" y="3097080"/>
          <a:ext cx="6840720" cy="29257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1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ді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ге жатпайтын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анғыш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6:35:08Z</dcterms:created>
  <dc:creator>User</dc:creator>
  <dc:description/>
  <dc:language>en-US</dc:language>
  <cp:lastModifiedBy>Nurken</cp:lastModifiedBy>
  <dcterms:modified xsi:type="dcterms:W3CDTF">2012-02-26T06:07:4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80000000000010250500207f7000400038000</vt:lpwstr>
  </property>
</Properties>
</file>